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AE4D-778A-41AB-8861-22D5C5F3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119-149D-4B65-A280-1B7B8AAB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B15-ACE7-4988-A79C-5FC34A2D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83B-8673-47C5-9A49-349C4CF6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ECBB-6FCC-47A7-A604-A6AED400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8F66-3F8C-4BFE-9FB3-6D7C2651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08A8-B220-4072-9088-D546D359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76BD-39C0-4BF1-9672-D824650B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E94B-2260-4DB1-BC43-B98EFF66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E853-80ED-47B4-8CD0-480AAD6A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D692-8850-4CA6-B103-3A536F07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805-B413-40C6-B803-E893D4EA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9423-A494-43E3-ADE6-C9F0E489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FE50-9CE3-413C-AACB-EFC00709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8E2A-63D2-455C-A39F-4D05989A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E415-E922-44B6-8C32-9F168E99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F3E7-8F21-4961-B054-FA9F9F52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E9E-7D89-4169-B15A-2B9D5B9F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1DD-4E5A-46A7-8B57-81425E73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8A73-6CF5-4CD6-B22A-4A10715A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D75-C9E0-4F2F-97E8-D6A80962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87D-CD3A-4B3E-85C0-8F686F31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7FD-7327-44DE-B5D4-BFDF2528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03B-5BC6-49FA-B119-14C75848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B561-381A-4C72-B940-50D48CD52DB2}" type="slidenum">
              <a:rPr b="0" lang="en-US" sz="1400" spc="-1" strike="noStrike">
                <a:solidFill>
                  <a:srgbClr val="82979a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33523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b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E7F8-DAAD-4DC0-B79A-8AE8A7B31323}" type="slidenum">
              <a:rPr b="0" lang="en-US" sz="1400" spc="-1" strike="noStrike">
                <a:solidFill>
                  <a:srgbClr val="82979a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97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979a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979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97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82979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979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979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979a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979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979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979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33523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4760" y="4280040"/>
            <a:ext cx="5638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3:09:15Z</dcterms:created>
  <dc:creator>Bonnie Ritchey</dc:creator>
  <dc:description/>
  <dc:language>en-US</dc:language>
  <cp:lastModifiedBy>Bonnie Ritchey</cp:lastModifiedBy>
  <dcterms:modified xsi:type="dcterms:W3CDTF">2004-05-21T03:10:21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01033</vt:lpwstr>
  </property>
</Properties>
</file>